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4.wmf" ContentType="image/x-wmf"/>
  <Override PartName="/ppt/media/image36.png" ContentType="image/png"/>
  <Override PartName="/ppt/media/image8.jpeg" ContentType="image/jpeg"/>
  <Override PartName="/ppt/media/image39.jpeg" ContentType="image/jpeg"/>
  <Override PartName="/ppt/media/image37.wmf" ContentType="image/x-wmf"/>
  <Override PartName="/ppt/media/image41.png" ContentType="image/png"/>
  <Override PartName="/ppt/media/image43.wmf" ContentType="image/x-wmf"/>
  <Override PartName="/ppt/media/image44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FF99F-EF08-46A1-8F76-E0766D74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AB7D-3E38-4667-A13B-A1D70F02F1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A3D5-04CF-4F5C-AD49-48E412EA0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1C65-F21A-4784-9566-3AECABD93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404C-1F82-48E5-B890-C7B7921F8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A73E-4F53-43FE-AE6A-E34B8B6DD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80D4-08CD-4373-B652-49D6201E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D84F-C094-4620-95C8-F7AE48BE9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1A265-960C-434E-AB6B-B256279A0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77C4-9794-4176-970A-7A05D4701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C6E6-2F1E-4322-88A1-0A617CD7B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D844-D3BA-471F-8CA0-B49EBCCD0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02BA-FF71-4478-8E32-71C530364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E2C90-882E-4083-9CDF-E908B8EEAE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000B-398F-44FF-8207-D981619C3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A71F-E87B-44B1-97FE-0C56145A5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4BE5-93B3-4636-9382-BB9EAF35F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4699-1629-4CC4-90E1-24F07D7E9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E1E6-5ED5-43B7-BFE0-87FF6D561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93F38-15C3-48B4-85FF-A45B8953AC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CD37-B116-47F0-8065-7083B698E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7FAC-07C8-4843-AC8A-09C1B5B671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39A9A-FFDC-43E3-8A47-4D9C088312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7333-3EAB-4CF6-A49D-67CDF5EBA1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8D8D-E58D-4F8A-9D36-48742CCC04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EB32-8B02-47B1-A1C6-A4C458873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7450A-A4C3-4C94-BD7F-09B61D05E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8D90-221D-44DB-822B-B2FA5CF8C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060B-2A3A-4A1F-AE69-53028A43E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2A53-3270-43AF-A087-449DF3EE1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0BD3-CD65-4061-84BA-DF2EB51FC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EAA42-28B5-4BEA-A91A-FD85C6BEA6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87DF9-060F-4FA6-BC56-AB1C5A9D80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1E729-23C1-4C21-9649-D2C6A7B514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51C50-4A1B-4DB2-B2B8-C114D0870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0243-2A14-419D-B070-561B43A764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E0A62-4082-49D2-B2C8-BEB3FF8089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698E9-8D0A-4BDF-A3A4-D84B9B69D7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FB1AB-D199-478D-8F4E-E635BAA33A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9F348-7C29-4E04-BE69-390640E00B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E1AB7-28A9-455C-B042-1F72B3B544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50C4C-0F54-400F-BD38-97B4F7E3A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34153-42C2-4F03-8958-B3FB09F75D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562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309B-049A-45E3-8F6A-1324E236E9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30.png"/><Relationship Id="rId6" Type="http://schemas.openxmlformats.org/officeDocument/2006/relationships/image" Target="../media/image30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ustomer Service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9EE9-B523-423C-B814-26848DB87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2CF1-D1F9-4AED-A340-4E11C819B6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hysicia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AutoShape 4"/>
          <p:cNvSpPr/>
          <p:nvPr/>
        </p:nvSpPr>
        <p:spPr>
          <a:xfrm>
            <a:off x="685800" y="232416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AutoShape 5"/>
          <p:cNvSpPr/>
          <p:nvPr/>
        </p:nvSpPr>
        <p:spPr>
          <a:xfrm>
            <a:off x="6248520" y="2324160"/>
            <a:ext cx="220968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3124080" y="5486400"/>
            <a:ext cx="274320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1" name="AutoShape 7"/>
          <p:cNvCxnSpPr>
            <a:stCxn id="230" idx="0"/>
            <a:endCxn id="229" idx="2"/>
          </p:cNvCxnSpPr>
          <p:nvPr/>
        </p:nvCxnSpPr>
        <p:spPr>
          <a:xfrm flipV="1">
            <a:off x="4495680" y="3123720"/>
            <a:ext cx="2858400" cy="23630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8"/>
          <p:cNvCxnSpPr>
            <a:stCxn id="230" idx="0"/>
            <a:endCxn id="228" idx="2"/>
          </p:cNvCxnSpPr>
          <p:nvPr/>
        </p:nvCxnSpPr>
        <p:spPr>
          <a:xfrm flipH="1" flipV="1">
            <a:off x="1599480" y="3085560"/>
            <a:ext cx="289620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33" name="AutoShape 9"/>
          <p:cNvSpPr/>
          <p:nvPr/>
        </p:nvSpPr>
        <p:spPr>
          <a:xfrm>
            <a:off x="2971800" y="1447920"/>
            <a:ext cx="28954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4" name="AutoShape 10"/>
          <p:cNvCxnSpPr>
            <a:stCxn id="230" idx="0"/>
            <a:endCxn id="233" idx="2"/>
          </p:cNvCxnSpPr>
          <p:nvPr/>
        </p:nvCxnSpPr>
        <p:spPr>
          <a:xfrm flipH="1" flipV="1">
            <a:off x="4419000" y="2590200"/>
            <a:ext cx="766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5" name="AutoShape 11"/>
          <p:cNvCxnSpPr>
            <a:stCxn id="228" idx="3"/>
            <a:endCxn id="233" idx="1"/>
          </p:cNvCxnSpPr>
          <p:nvPr/>
        </p:nvCxnSpPr>
        <p:spPr>
          <a:xfrm flipV="1">
            <a:off x="2514600" y="2018520"/>
            <a:ext cx="45792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36" name="AutoShape 12"/>
          <p:cNvCxnSpPr>
            <a:stCxn id="233" idx="3"/>
            <a:endCxn id="229" idx="1"/>
          </p:cNvCxnSpPr>
          <p:nvPr/>
        </p:nvCxnSpPr>
        <p:spPr>
          <a:xfrm>
            <a:off x="5866920" y="2019240"/>
            <a:ext cx="381960" cy="705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7" name="Rectangle 13"/>
          <p:cNvSpPr/>
          <p:nvPr/>
        </p:nvSpPr>
        <p:spPr>
          <a:xfrm>
            <a:off x="2286000" y="3505320"/>
            <a:ext cx="4648320" cy="16002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terpretable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8BA3-CA3E-44AE-8AAB-3B12F01B1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1523-3A73-4561-8757-B740B27B47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hysician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304920" y="2057400"/>
          <a:ext cx="8534160" cy="3733920"/>
        </p:xfrm>
        <a:graphic>
          <a:graphicData uri="http://schemas.openxmlformats.org/drawingml/2006/table">
            <a:tbl>
              <a:tblPr/>
              <a:tblGrid>
                <a:gridCol w="2590560"/>
                <a:gridCol w="3200400"/>
                <a:gridCol w="27432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re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Postexamin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2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men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llection man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quisition fo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y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 valid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assess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ple contr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cess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ccurrence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boratory information 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ults ver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rpretable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ely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te deli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42" name="AutoShape 47"/>
          <p:cNvSpPr/>
          <p:nvPr/>
        </p:nvSpPr>
        <p:spPr>
          <a:xfrm>
            <a:off x="762120" y="1295280"/>
            <a:ext cx="1600200" cy="685800"/>
          </a:xfrm>
          <a:prstGeom prst="pie">
            <a:avLst/>
          </a:pr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AutoShape 48"/>
          <p:cNvSpPr/>
          <p:nvPr/>
        </p:nvSpPr>
        <p:spPr>
          <a:xfrm>
            <a:off x="3505320" y="1295280"/>
            <a:ext cx="1752480" cy="685800"/>
          </a:xfrm>
          <a:prstGeom prst="pie">
            <a:avLst/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AutoShape 49"/>
          <p:cNvSpPr/>
          <p:nvPr/>
        </p:nvSpPr>
        <p:spPr>
          <a:xfrm>
            <a:off x="6477120" y="1295280"/>
            <a:ext cx="1676160" cy="685800"/>
          </a:xfrm>
          <a:prstGeom prst="pie">
            <a:avLst/>
          </a:pr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D679-C387-46EF-90B8-5067759908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19EC-E244-4074-9312-D1BA24B0E4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Rectangle 13"/>
          <p:cNvSpPr/>
          <p:nvPr/>
        </p:nvSpPr>
        <p:spPr>
          <a:xfrm>
            <a:off x="1143000" y="3352680"/>
            <a:ext cx="2133720" cy="2057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mf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AutoShape 4"/>
          <p:cNvSpPr/>
          <p:nvPr/>
        </p:nvSpPr>
        <p:spPr>
          <a:xfrm>
            <a:off x="609480" y="1981080"/>
            <a:ext cx="21337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5"/>
          <p:cNvSpPr/>
          <p:nvPr/>
        </p:nvSpPr>
        <p:spPr>
          <a:xfrm>
            <a:off x="6400800" y="23623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6"/>
          <p:cNvSpPr/>
          <p:nvPr/>
        </p:nvSpPr>
        <p:spPr>
          <a:xfrm>
            <a:off x="3429000" y="4952880"/>
            <a:ext cx="2666880" cy="10670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3" name="AutoShape 7"/>
          <p:cNvCxnSpPr>
            <a:stCxn id="252" idx="0"/>
          </p:cNvCxnSpPr>
          <p:nvPr/>
        </p:nvCxnSpPr>
        <p:spPr>
          <a:xfrm flipV="1">
            <a:off x="4762440" y="3428280"/>
            <a:ext cx="2286720" cy="1524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AutoShape 8"/>
          <p:cNvCxnSpPr>
            <a:stCxn id="252" idx="0"/>
          </p:cNvCxnSpPr>
          <p:nvPr/>
        </p:nvCxnSpPr>
        <p:spPr>
          <a:xfrm flipH="1" flipV="1">
            <a:off x="2666160" y="2971080"/>
            <a:ext cx="2096280" cy="19818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55" name="AutoShape 9"/>
          <p:cNvSpPr/>
          <p:nvPr/>
        </p:nvSpPr>
        <p:spPr>
          <a:xfrm>
            <a:off x="3505320" y="2209680"/>
            <a:ext cx="220968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56" name="AutoShape 10"/>
          <p:cNvCxnSpPr/>
          <p:nvPr/>
        </p:nvCxnSpPr>
        <p:spPr>
          <a:xfrm flipH="1" flipV="1">
            <a:off x="4723920" y="3276360"/>
            <a:ext cx="38880" cy="167688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7" name="AutoShape 11"/>
          <p:cNvCxnSpPr>
            <a:stCxn id="250" idx="3"/>
            <a:endCxn id="255" idx="1"/>
          </p:cNvCxnSpPr>
          <p:nvPr/>
        </p:nvCxnSpPr>
        <p:spPr>
          <a:xfrm>
            <a:off x="2742840" y="2552400"/>
            <a:ext cx="762840" cy="229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8" name="AutoShape 12"/>
          <p:cNvCxnSpPr>
            <a:stCxn id="255" idx="3"/>
            <a:endCxn id="251" idx="1"/>
          </p:cNvCxnSpPr>
          <p:nvPr/>
        </p:nvCxnSpPr>
        <p:spPr>
          <a:xfrm>
            <a:off x="5714640" y="2781360"/>
            <a:ext cx="686520" cy="957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B998-3EDF-4065-8D92-1FCC8A11DC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0FEE-F2C6-4E80-8446-693B937052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ctions to meet patient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collection facili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ed and knowledgeable personn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identiality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enance of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6324480" y="586728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Verdana"/>
              </a:rPr>
              <a:t>CONFID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Picture 12" descr="14_instructions"/>
          <p:cNvPicPr/>
          <p:nvPr/>
        </p:nvPicPr>
        <p:blipFill>
          <a:blip r:embed="rId3"/>
          <a:stretch/>
        </p:blipFill>
        <p:spPr>
          <a:xfrm rot="20064600">
            <a:off x="3885840" y="4343400"/>
            <a:ext cx="1581120" cy="2122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9CEF9-494D-498F-9C32-61BAEEDEE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0708-BB4E-41DC-9B63-2894CFE61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ovide information for pati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70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7"/>
          <p:cNvSpPr/>
          <p:nvPr/>
        </p:nvSpPr>
        <p:spPr>
          <a:xfrm>
            <a:off x="304920" y="1219320"/>
            <a:ext cx="815328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address and location –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re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urs of op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lingual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lingual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670D-6E45-4CE4-9C80-EDC410D4AC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A3C16-8E16-4E4F-9BB9-C1E1269DF7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llection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tient prepa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sample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ype of container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al hand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343400" y="4038480"/>
            <a:ext cx="4259160" cy="2079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334120" y="2590920"/>
            <a:ext cx="3504960" cy="15332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7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80" name="Picture 8" descr="patient-wristband"/>
          <p:cNvPicPr/>
          <p:nvPr/>
        </p:nvPicPr>
        <p:blipFill>
          <a:blip r:embed="rId4"/>
          <a:stretch/>
        </p:blipFill>
        <p:spPr>
          <a:xfrm>
            <a:off x="7391520" y="1066680"/>
            <a:ext cx="1523880" cy="15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C55D-D4D8-42C1-AF80-8BD1A5096E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17241-0A52-4D36-8F06-74D9614D95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533520" y="53352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7d"/>
                </a:solidFill>
                <a:latin typeface="Verdana"/>
              </a:rPr>
              <a:t>Provide clean, private sample collection roo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72BC-8784-43DE-A19C-B6C5CEC59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5EC5-019C-4341-99E9-BCB69AA83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AutoShape 2"/>
          <p:cNvSpPr/>
          <p:nvPr/>
        </p:nvSpPr>
        <p:spPr>
          <a:xfrm>
            <a:off x="6553080" y="1295280"/>
            <a:ext cx="1752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blic Health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AutoShape 5"/>
          <p:cNvSpPr/>
          <p:nvPr/>
        </p:nvSpPr>
        <p:spPr>
          <a:xfrm>
            <a:off x="6095880" y="2324160"/>
            <a:ext cx="2362320" cy="1181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AutoShape 6"/>
          <p:cNvSpPr/>
          <p:nvPr/>
        </p:nvSpPr>
        <p:spPr>
          <a:xfrm>
            <a:off x="3276720" y="4876920"/>
            <a:ext cx="228600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2" name="AutoShape 7"/>
          <p:cNvCxnSpPr/>
          <p:nvPr/>
        </p:nvCxnSpPr>
        <p:spPr>
          <a:xfrm flipV="1">
            <a:off x="4419720" y="3504960"/>
            <a:ext cx="16768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3" name="AutoShape 8"/>
          <p:cNvCxnSpPr>
            <a:stCxn id="291" idx="0"/>
          </p:cNvCxnSpPr>
          <p:nvPr/>
        </p:nvCxnSpPr>
        <p:spPr>
          <a:xfrm flipH="1" flipV="1">
            <a:off x="1981080" y="3047760"/>
            <a:ext cx="243900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94" name="AutoShape 9"/>
          <p:cNvSpPr/>
          <p:nvPr/>
        </p:nvSpPr>
        <p:spPr>
          <a:xfrm>
            <a:off x="358128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95" name="AutoShape 10"/>
          <p:cNvCxnSpPr>
            <a:stCxn id="291" idx="0"/>
          </p:cNvCxnSpPr>
          <p:nvPr/>
        </p:nvCxnSpPr>
        <p:spPr>
          <a:xfrm flipH="1" flipV="1">
            <a:off x="4343400" y="3199680"/>
            <a:ext cx="7668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6" name="AutoShape 11"/>
          <p:cNvCxnSpPr>
            <a:endCxn id="294" idx="1"/>
          </p:cNvCxnSpPr>
          <p:nvPr/>
        </p:nvCxnSpPr>
        <p:spPr>
          <a:xfrm flipV="1">
            <a:off x="2514240" y="2704680"/>
            <a:ext cx="106740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97" name="AutoShape 12"/>
          <p:cNvCxnSpPr>
            <a:stCxn id="294" idx="3"/>
            <a:endCxn id="290" idx="1"/>
          </p:cNvCxnSpPr>
          <p:nvPr/>
        </p:nvCxnSpPr>
        <p:spPr>
          <a:xfrm>
            <a:off x="5409720" y="2705040"/>
            <a:ext cx="686520" cy="2102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98" name="Rectangle 13"/>
          <p:cNvSpPr/>
          <p:nvPr/>
        </p:nvSpPr>
        <p:spPr>
          <a:xfrm>
            <a:off x="6095880" y="3733920"/>
            <a:ext cx="2286000" cy="24382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Materi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Contain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E31E-D194-4ED8-9582-42CE4ED1BF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B2DF-2FCD-4EC9-8AD2-6E29D45EE4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1" name="Diagram 8"/>
          <p:cNvGrpSpPr/>
          <p:nvPr/>
        </p:nvGrpSpPr>
        <p:grpSpPr>
          <a:xfrm>
            <a:off x="954360" y="1066680"/>
            <a:ext cx="7386840" cy="5330160"/>
            <a:chOff x="954360" y="1066680"/>
            <a:chExt cx="7386840" cy="5330160"/>
          </a:xfrm>
        </p:grpSpPr>
        <p:sp>
          <p:nvSpPr>
            <p:cNvPr id="302" name="_s1028"/>
            <p:cNvSpPr/>
            <p:nvPr/>
          </p:nvSpPr>
          <p:spPr>
            <a:xfrm flipH="1" flipV="1">
              <a:off x="2869920" y="306432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_s1029"/>
            <p:cNvSpPr/>
            <p:nvPr/>
          </p:nvSpPr>
          <p:spPr>
            <a:xfrm>
              <a:off x="954360" y="2064240"/>
              <a:ext cx="2053080" cy="1332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aste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_s1030"/>
            <p:cNvSpPr/>
            <p:nvPr/>
          </p:nvSpPr>
          <p:spPr>
            <a:xfrm flipH="1">
              <a:off x="286992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_s1031"/>
            <p:cNvSpPr/>
            <p:nvPr/>
          </p:nvSpPr>
          <p:spPr>
            <a:xfrm>
              <a:off x="954360" y="4064040"/>
              <a:ext cx="2053080" cy="1332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Transport of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dangerou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good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_s1032"/>
            <p:cNvSpPr/>
            <p:nvPr/>
          </p:nvSpPr>
          <p:spPr>
            <a:xfrm>
              <a:off x="4647600" y="4397040"/>
              <a:ext cx="0" cy="6667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7" name="_s1033"/>
            <p:cNvSpPr/>
            <p:nvPr/>
          </p:nvSpPr>
          <p:spPr>
            <a:xfrm>
              <a:off x="3621600" y="5063760"/>
              <a:ext cx="205236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tainmen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_s1034"/>
            <p:cNvSpPr/>
            <p:nvPr/>
          </p:nvSpPr>
          <p:spPr>
            <a:xfrm>
              <a:off x="5537160" y="4064040"/>
              <a:ext cx="888480" cy="332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_s1035"/>
            <p:cNvSpPr/>
            <p:nvPr/>
          </p:nvSpPr>
          <p:spPr>
            <a:xfrm>
              <a:off x="6288120" y="4064040"/>
              <a:ext cx="2053080" cy="1332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ecuri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_s1036"/>
            <p:cNvSpPr/>
            <p:nvPr/>
          </p:nvSpPr>
          <p:spPr>
            <a:xfrm flipV="1">
              <a:off x="5537160" y="3066120"/>
              <a:ext cx="888480" cy="333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_s1037"/>
            <p:cNvSpPr/>
            <p:nvPr/>
          </p:nvSpPr>
          <p:spPr>
            <a:xfrm>
              <a:off x="6288120" y="2066400"/>
              <a:ext cx="2053080" cy="13330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afet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_s1038"/>
            <p:cNvSpPr/>
            <p:nvPr/>
          </p:nvSpPr>
          <p:spPr>
            <a:xfrm flipV="1">
              <a:off x="4647600" y="2399400"/>
              <a:ext cx="0" cy="66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_s1039"/>
            <p:cNvSpPr/>
            <p:nvPr/>
          </p:nvSpPr>
          <p:spPr>
            <a:xfrm>
              <a:off x="3621600" y="1066680"/>
              <a:ext cx="2052360" cy="13330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Communicable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disease alert,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urveillance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and respons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_s1040"/>
            <p:cNvSpPr/>
            <p:nvPr/>
          </p:nvSpPr>
          <p:spPr>
            <a:xfrm>
              <a:off x="3621600" y="3066120"/>
              <a:ext cx="2052360" cy="13330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5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eting the Community, Public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26"/>
          <p:cNvSpPr/>
          <p:nvPr/>
        </p:nvSpPr>
        <p:spPr>
          <a:xfrm>
            <a:off x="3429000" y="2743200"/>
            <a:ext cx="2666880" cy="18788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B146-4E15-4E94-B466-1F9F1E1544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89EF-92AD-4222-966A-89189EFF06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762120" y="1523880"/>
            <a:ext cx="7619760" cy="119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aboratory inspected and accredited to high standar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ent Require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1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22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24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comic"/>
                  <a:ea typeface="comic"/>
                </a:endParaRPr>
              </a:p>
            </p:txBody>
          </p:sp>
        </p:grpSp>
        <p:sp>
          <p:nvSpPr>
            <p:cNvPr id="325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Text Box 14"/>
            <p:cNvSpPr/>
            <p:nvPr/>
          </p:nvSpPr>
          <p:spPr>
            <a:xfrm>
              <a:off x="1847520" y="474660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IMARY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7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28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29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30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31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comic"/>
                  </a:rPr>
                  <a:t>ACCREDITATION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comic"/>
                  <a:ea typeface="comic"/>
                </a:endParaRPr>
              </a:p>
            </p:txBody>
          </p:sp>
        </p:grpSp>
        <p:sp>
          <p:nvSpPr>
            <p:cNvPr id="332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3" name="Text Box 21"/>
            <p:cNvSpPr/>
            <p:nvPr/>
          </p:nvSpPr>
          <p:spPr>
            <a:xfrm>
              <a:off x="4934160" y="4772880"/>
              <a:ext cx="277956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AINTAINED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4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99FF-94A9-4B55-9661-296F506D31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4049-163D-49EF-86FF-0B2B2FEB25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gnize the variety of laboratory customer grou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 methods to measure customer satisf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problems that may develop with customer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ggest solutions for customer service proble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cuss how quality management processes help the laboratory meet customer group needs and require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EDFB-7F62-4185-8C80-60B7893EC2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86D8-696C-406B-9F26-4A40951EDA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ood customer service provides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07696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for best patient c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aluable information to improve surveil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fessional image of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Customer service is a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integral part of a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82B6-5D15-432E-BD66-10114323E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7757-DEFD-4018-9B98-3606B0939C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Methods for Assessing Customer Satisfac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43" name="Diagram 5"/>
          <p:cNvGrpSpPr/>
          <p:nvPr/>
        </p:nvGrpSpPr>
        <p:grpSpPr>
          <a:xfrm>
            <a:off x="807120" y="1339920"/>
            <a:ext cx="7452720" cy="4906080"/>
            <a:chOff x="807120" y="1339920"/>
            <a:chExt cx="7452720" cy="4906080"/>
          </a:xfrm>
        </p:grpSpPr>
        <p:sp>
          <p:nvSpPr>
            <p:cNvPr id="344" name="_s2052"/>
            <p:cNvSpPr/>
            <p:nvPr/>
          </p:nvSpPr>
          <p:spPr>
            <a:xfrm flipH="1" flipV="1">
              <a:off x="2739600" y="317808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5" name="_s2053"/>
            <p:cNvSpPr/>
            <p:nvPr/>
          </p:nvSpPr>
          <p:spPr>
            <a:xfrm>
              <a:off x="807120" y="225828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nterviews,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focus group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6" name="_s2054"/>
            <p:cNvSpPr/>
            <p:nvPr/>
          </p:nvSpPr>
          <p:spPr>
            <a:xfrm flipH="1">
              <a:off x="2739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7" name="_s2055"/>
            <p:cNvSpPr/>
            <p:nvPr/>
          </p:nvSpPr>
          <p:spPr>
            <a:xfrm>
              <a:off x="80712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atisfaction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surveys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8" name="_s2056"/>
            <p:cNvSpPr/>
            <p:nvPr/>
          </p:nvSpPr>
          <p:spPr>
            <a:xfrm>
              <a:off x="4533480" y="4405320"/>
              <a:ext cx="0" cy="61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9" name="_s2057"/>
            <p:cNvSpPr/>
            <p:nvPr/>
          </p:nvSpPr>
          <p:spPr>
            <a:xfrm>
              <a:off x="3498120" y="50191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revie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_s2058"/>
            <p:cNvSpPr/>
            <p:nvPr/>
          </p:nvSpPr>
          <p:spPr>
            <a:xfrm>
              <a:off x="5430600" y="4098960"/>
              <a:ext cx="896400" cy="30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_s2059"/>
            <p:cNvSpPr/>
            <p:nvPr/>
          </p:nvSpPr>
          <p:spPr>
            <a:xfrm>
              <a:off x="6188400" y="4098960"/>
              <a:ext cx="2071440" cy="12265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ternal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audit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_s2060"/>
            <p:cNvSpPr/>
            <p:nvPr/>
          </p:nvSpPr>
          <p:spPr>
            <a:xfrm flipV="1">
              <a:off x="5430600" y="3180240"/>
              <a:ext cx="896400" cy="30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3" name="_s2061"/>
            <p:cNvSpPr/>
            <p:nvPr/>
          </p:nvSpPr>
          <p:spPr>
            <a:xfrm>
              <a:off x="6188400" y="2260080"/>
              <a:ext cx="207144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quality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indicator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_s2062"/>
            <p:cNvSpPr/>
            <p:nvPr/>
          </p:nvSpPr>
          <p:spPr>
            <a:xfrm flipV="1">
              <a:off x="4533480" y="2566800"/>
              <a:ext cx="0" cy="61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_s2063"/>
            <p:cNvSpPr/>
            <p:nvPr/>
          </p:nvSpPr>
          <p:spPr>
            <a:xfrm>
              <a:off x="3498120" y="133992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complaint</a:t>
              </a:r>
              <a:br>
                <a:rPr sz="2400"/>
              </a:br>
              <a:r>
                <a:rPr b="0" lang="en-US" sz="2400" spc="-1" strike="noStrike">
                  <a:solidFill>
                    <a:srgbClr val="ffff00"/>
                  </a:solidFill>
                  <a:latin typeface="Verdana"/>
                </a:rPr>
                <a:t> monitoring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_s2064"/>
            <p:cNvSpPr/>
            <p:nvPr/>
          </p:nvSpPr>
          <p:spPr>
            <a:xfrm>
              <a:off x="3498120" y="3180240"/>
              <a:ext cx="2070720" cy="122688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Verdana"/>
                </a:rPr>
                <a:t>MONITOR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ED82-B814-49BC-A1CC-7D5F60AB0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E30E-2CBD-4055-9A17-7124EFA39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9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ceived complaints may reflect only the “Tip of the Iceberg”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1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6706-C2CC-4595-AC0C-B4ABE21383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40C5-8B6E-4D69-8856-6409AFC4D5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990720"/>
            <a:ext cx="4038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lai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3657600" cy="17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Actual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dissatisfied customers!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6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AutoShape 10"/>
          <p:cNvSpPr/>
          <p:nvPr/>
        </p:nvSpPr>
        <p:spPr>
          <a:xfrm rot="5400000">
            <a:off x="2628720" y="2705040"/>
            <a:ext cx="3809880" cy="2666880"/>
          </a:xfrm>
          <a:prstGeom prst="pi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D5E3-DFA4-4031-A9EF-FA5BFDBF77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sessment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AutoShape 14"/>
          <p:cNvSpPr/>
          <p:nvPr/>
        </p:nvSpPr>
        <p:spPr>
          <a:xfrm>
            <a:off x="914400" y="114300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indicat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AutoShape 16"/>
          <p:cNvSpPr/>
          <p:nvPr/>
        </p:nvSpPr>
        <p:spPr>
          <a:xfrm>
            <a:off x="5334120" y="838080"/>
            <a:ext cx="3352680" cy="2210040"/>
          </a:xfrm>
          <a:prstGeom prst="hexagon">
            <a:avLst>
              <a:gd name="adj" fmla="val 37926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715000" y="137160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nducting internal aud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AutoShape 21"/>
          <p:cNvSpPr/>
          <p:nvPr/>
        </p:nvSpPr>
        <p:spPr>
          <a:xfrm rot="4216800">
            <a:off x="2411280" y="2452320"/>
            <a:ext cx="1444680" cy="99072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22"/>
          <p:cNvSpPr/>
          <p:nvPr/>
        </p:nvSpPr>
        <p:spPr>
          <a:xfrm rot="6607200">
            <a:off x="4489560" y="2439000"/>
            <a:ext cx="1452600" cy="990360"/>
          </a:xfrm>
          <a:prstGeom prst="pie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AutoShape 23"/>
          <p:cNvSpPr/>
          <p:nvPr/>
        </p:nvSpPr>
        <p:spPr>
          <a:xfrm>
            <a:off x="1981080" y="3657600"/>
            <a:ext cx="4724640" cy="2133720"/>
          </a:xfrm>
          <a:prstGeom prst="downArrowCallout">
            <a:avLst>
              <a:gd name="adj1" fmla="val 55362"/>
              <a:gd name="adj2" fmla="val 55357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2286000" y="388620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eviewing b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3733920" y="52578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322D-E59B-44A1-9FEB-C43A041FD9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1409-45EB-485E-B69C-F8BDEC561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152280" y="990720"/>
            <a:ext cx="464832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ustomer surveys are a requirement of quality management system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ISO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customer_service_form"/>
          <p:cNvPicPr/>
          <p:nvPr/>
        </p:nvPicPr>
        <p:blipFill>
          <a:blip r:embed="rId1"/>
          <a:srcRect l="11760" t="1818" r="11760" b="11818"/>
          <a:stretch/>
        </p:blipFill>
        <p:spPr>
          <a:xfrm>
            <a:off x="4876920" y="609480"/>
            <a:ext cx="3781440" cy="5524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5B1F5-5DB5-4167-92DA-B276C89FD4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3E85-B6F3-4441-A5D1-E7A96F048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ustomer Survey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9" name="Diagram 5"/>
          <p:cNvGrpSpPr/>
          <p:nvPr/>
        </p:nvGrpSpPr>
        <p:grpSpPr>
          <a:xfrm>
            <a:off x="757800" y="1295280"/>
            <a:ext cx="7553880" cy="4525920"/>
            <a:chOff x="757800" y="1295280"/>
            <a:chExt cx="7553880" cy="4525920"/>
          </a:xfrm>
        </p:grpSpPr>
        <p:sp>
          <p:nvSpPr>
            <p:cNvPr id="390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analyzed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in a timely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manner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_s3079"/>
            <p:cNvSpPr/>
            <p:nvPr/>
          </p:nvSpPr>
          <p:spPr>
            <a:xfrm>
              <a:off x="1821960" y="4600080"/>
              <a:ext cx="196128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no leading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questions, 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unbias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5" name="_s3081"/>
            <p:cNvSpPr/>
            <p:nvPr/>
          </p:nvSpPr>
          <p:spPr>
            <a:xfrm>
              <a:off x="5279760" y="4601880"/>
              <a:ext cx="196128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e-test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_s3083"/>
            <p:cNvSpPr/>
            <p:nvPr/>
          </p:nvSpPr>
          <p:spPr>
            <a:xfrm>
              <a:off x="6350400" y="2558160"/>
              <a:ext cx="196128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organiz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_s3085"/>
            <p:cNvSpPr/>
            <p:nvPr/>
          </p:nvSpPr>
          <p:spPr>
            <a:xfrm>
              <a:off x="3553200" y="1295280"/>
              <a:ext cx="1960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lanned</a:t>
              </a:r>
              <a:endParaRPr b="0" lang="en-US" sz="2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1" name="Text Box 19"/>
          <p:cNvSpPr/>
          <p:nvPr/>
        </p:nvSpPr>
        <p:spPr>
          <a:xfrm>
            <a:off x="3276720" y="2819520"/>
            <a:ext cx="2666880" cy="179964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survey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7B523-922A-4EC9-AF18-D8ECF122FC2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99F9-89FE-4DDC-8AE3-DAFBD1D0F7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rvey Interview Ti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7086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out questions in adv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k specific questions and an open-ended ques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honest feedba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6" name="Picture 9" descr="MCj02955670000[1]"/>
          <p:cNvPicPr/>
          <p:nvPr/>
        </p:nvPicPr>
        <p:blipFill>
          <a:blip r:embed="rId1"/>
          <a:stretch/>
        </p:blipFill>
        <p:spPr>
          <a:xfrm>
            <a:off x="6431040" y="2819520"/>
            <a:ext cx="2712960" cy="3429000"/>
          </a:xfrm>
          <a:prstGeom prst="rect">
            <a:avLst/>
          </a:prstGeom>
          <a:ln w="0">
            <a:noFill/>
          </a:ln>
        </p:spPr>
      </p:pic>
      <p:sp>
        <p:nvSpPr>
          <p:cNvPr id="407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762120" y="342900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w could the laboratory improve its service to you?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B0736-CB8F-4707-BF46-AB267E1655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ocus group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conducting foc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up discussions, consid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ing small groups of 8-10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ing people with diverse backgrounds and laboratory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rt by asking questions that build tru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ocus group guide for consistency between grou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sk only open-ended question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—not “yes or no”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2" name="Picture 9" descr="MCPE02097_0000[1]"/>
          <p:cNvPicPr/>
          <p:nvPr/>
        </p:nvPicPr>
        <p:blipFill>
          <a:blip r:embed="rId1"/>
          <a:srcRect l="0" t="0" r="10556" b="60631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FE3A7-82C4-4430-A883-EA6EFF6C66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97FA-D1CD-4C12-9193-641EFE639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easuring Customer Satisfaction: Opportunity for Impro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609480" y="1676520"/>
            <a:ext cx="800100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Surveys, indicators, audit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2895480" y="3352680"/>
            <a:ext cx="320040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Inform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</a:rPr>
              <a:t>Process improvemen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6759-D911-4DE9-AF48-AB57DF364C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63FE-DAC4-4A96-BD92-01A03FA50E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4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A few of your customers have complained about long delays in reporting HIV test results. You have confirmed that the delay is unreasonable and you solved the probl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How can you restore confidence with your customer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259C-8C4D-4399-877E-9C0467F0DA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06263-61A2-4BD9-94E7-A36D131CBE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 activ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ensures laboratories mee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all client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6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7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28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A2B3-D512-4D91-9924-F2FB7A8626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0C57-111E-4E80-B98E-C11B3610AF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stomer service is an integral part of a quality management system. It is important for the laboratory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ave commitment to pro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planning and monito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 and understand clients and their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resources for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eeting customer needs is a primary goal of the laborator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n active quality management system ensures laboratories meet all client requir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veryone in the laboratory is responsible for quality, and therefore for customer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D625-B63D-47CE-9100-F577FD164E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64683-6652-459A-9B4A-6B352A8F81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CF24-ED42-40B7-90E6-EC1B1859C0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638680" y="16002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9" name="Group 3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440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1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2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3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4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5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6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7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8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9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0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1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2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54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455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456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457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58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59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0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1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462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63" name="Text Box 74"/>
              <p:cNvSpPr/>
              <p:nvPr/>
            </p:nvSpPr>
            <p:spPr>
              <a:xfrm>
                <a:off x="22654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64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465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466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7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68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69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0" name="Group 34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471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2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3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5" name="Group 39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476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77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8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79" name="Group 43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480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1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82" name="Group 46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483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84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85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6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7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8" name="Group 52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489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0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55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492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58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495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6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73AD-29E7-4AC8-B31C-DB411FC7CF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69441-AE22-42D3-82BE-67FAB9BCE2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6" name="Group 5"/>
          <p:cNvGrpSpPr/>
          <p:nvPr/>
        </p:nvGrpSpPr>
        <p:grpSpPr>
          <a:xfrm>
            <a:off x="1905120" y="1143000"/>
            <a:ext cx="5105160" cy="5105520"/>
            <a:chOff x="1905120" y="1143000"/>
            <a:chExt cx="5105160" cy="5105520"/>
          </a:xfrm>
        </p:grpSpPr>
        <p:sp>
          <p:nvSpPr>
            <p:cNvPr id="127" name="AutoShape 4"/>
            <p:cNvSpPr/>
            <p:nvPr/>
          </p:nvSpPr>
          <p:spPr>
            <a:xfrm>
              <a:off x="1905120" y="1143000"/>
              <a:ext cx="5105160" cy="5105520"/>
            </a:xfrm>
            <a:custGeom>
              <a:avLst/>
              <a:gdLst>
                <a:gd name="textAreaLeft" fmla="*/ 249120 w 5105160"/>
                <a:gd name="textAreaRight" fmla="*/ 4856040 w 5105160"/>
                <a:gd name="textAreaTop" fmla="*/ 249120 h 5105520"/>
                <a:gd name="textAreaBottom" fmla="*/ 4856400 h 5105520"/>
              </a:gdLst>
              <a:ahLst/>
              <a:rect l="textAreaLeft" t="textAreaTop" r="textAreaRight" b="textAreaBottom"/>
              <a:pathLst>
                <a:path w="21600" h="21602">
                  <a:moveTo>
                    <a:pt x="3600" y="0"/>
                  </a:moveTo>
                  <a:arcTo wR="3600" hR="3600" stAng="16200000" swAng="-5400000"/>
                  <a:lnTo>
                    <a:pt x="0" y="18002"/>
                  </a:lnTo>
                  <a:arcTo wR="3600" hR="3600" stAng="10800000" swAng="-5400000"/>
                  <a:lnTo>
                    <a:pt x="18000" y="216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9"/>
            <p:cNvSpPr/>
            <p:nvPr/>
          </p:nvSpPr>
          <p:spPr>
            <a:xfrm>
              <a:off x="4116600" y="3830040"/>
              <a:ext cx="1188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0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1"/>
            <p:cNvSpPr/>
            <p:nvPr/>
          </p:nvSpPr>
          <p:spPr>
            <a:xfrm>
              <a:off x="4085280" y="3822480"/>
              <a:ext cx="31716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2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3"/>
            <p:cNvSpPr/>
            <p:nvPr/>
          </p:nvSpPr>
          <p:spPr>
            <a:xfrm>
              <a:off x="4343040" y="2600640"/>
              <a:ext cx="52884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16"/>
            <p:cNvSpPr/>
            <p:nvPr/>
          </p:nvSpPr>
          <p:spPr>
            <a:xfrm>
              <a:off x="2771640" y="3224520"/>
              <a:ext cx="16560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Freeform 22"/>
            <p:cNvSpPr/>
            <p:nvPr/>
          </p:nvSpPr>
          <p:spPr>
            <a:xfrm>
              <a:off x="2760480" y="3165120"/>
              <a:ext cx="16848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4"/>
            <p:cNvSpPr/>
            <p:nvPr/>
          </p:nvSpPr>
          <p:spPr>
            <a:xfrm flipH="1" flipV="1">
              <a:off x="4520160" y="586800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 flipV="1">
              <a:off x="4262040" y="476208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6033960" y="177156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4457520" y="192168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2805840" y="196848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Line 27"/>
            <p:cNvSpPr/>
            <p:nvPr/>
          </p:nvSpPr>
          <p:spPr>
            <a:xfrm flipH="1">
              <a:off x="2505600" y="1816920"/>
              <a:ext cx="38678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1" name="Group 65"/>
            <p:cNvGrpSpPr/>
            <p:nvPr/>
          </p:nvGrpSpPr>
          <p:grpSpPr>
            <a:xfrm>
              <a:off x="2205000" y="1230480"/>
              <a:ext cx="1243080" cy="1122840"/>
              <a:chOff x="2205000" y="1230480"/>
              <a:chExt cx="1243080" cy="1122840"/>
            </a:xfrm>
          </p:grpSpPr>
          <p:grpSp>
            <p:nvGrpSpPr>
              <p:cNvPr id="142" name="Group 66"/>
              <p:cNvGrpSpPr/>
              <p:nvPr/>
            </p:nvGrpSpPr>
            <p:grpSpPr>
              <a:xfrm>
                <a:off x="2205000" y="1230480"/>
                <a:ext cx="1220760" cy="1122840"/>
                <a:chOff x="2205000" y="1230480"/>
                <a:chExt cx="1220760" cy="1122840"/>
              </a:xfrm>
            </p:grpSpPr>
            <p:grpSp>
              <p:nvGrpSpPr>
                <p:cNvPr id="143" name="Group 67"/>
                <p:cNvGrpSpPr/>
                <p:nvPr/>
              </p:nvGrpSpPr>
              <p:grpSpPr>
                <a:xfrm>
                  <a:off x="2255760" y="1230480"/>
                  <a:ext cx="1135440" cy="1122840"/>
                  <a:chOff x="2255760" y="1230480"/>
                  <a:chExt cx="1135440" cy="1122840"/>
                </a:xfrm>
              </p:grpSpPr>
              <p:sp>
                <p:nvSpPr>
                  <p:cNvPr id="144" name="Freeform 68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5" name="Freeform 69"/>
                  <p:cNvSpPr/>
                  <p:nvPr/>
                </p:nvSpPr>
                <p:spPr>
                  <a:xfrm>
                    <a:off x="2255760" y="1230480"/>
                    <a:ext cx="113544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6" name="Text Box 70"/>
                <p:cNvSpPr/>
                <p:nvPr/>
              </p:nvSpPr>
              <p:spPr>
                <a:xfrm>
                  <a:off x="2205000" y="1489320"/>
                  <a:ext cx="122076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7" name="Text Box 71"/>
              <p:cNvSpPr/>
              <p:nvPr/>
            </p:nvSpPr>
            <p:spPr>
              <a:xfrm>
                <a:off x="2227320" y="162864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8" name="Group 72"/>
            <p:cNvGrpSpPr/>
            <p:nvPr/>
          </p:nvGrpSpPr>
          <p:grpSpPr>
            <a:xfrm>
              <a:off x="3836520" y="1230480"/>
              <a:ext cx="1221480" cy="1122840"/>
              <a:chOff x="3836520" y="1230480"/>
              <a:chExt cx="1221480" cy="1122840"/>
            </a:xfrm>
          </p:grpSpPr>
          <p:sp>
            <p:nvSpPr>
              <p:cNvPr id="149" name="Freeform 73"/>
              <p:cNvSpPr/>
              <p:nvPr/>
            </p:nvSpPr>
            <p:spPr>
              <a:xfrm>
                <a:off x="3876840" y="1230480"/>
                <a:ext cx="113616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Text Box 74"/>
              <p:cNvSpPr/>
              <p:nvPr/>
            </p:nvSpPr>
            <p:spPr>
              <a:xfrm>
                <a:off x="3836520" y="1628640"/>
                <a:ext cx="122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1" name="Group 75"/>
            <p:cNvGrpSpPr/>
            <p:nvPr/>
          </p:nvGrpSpPr>
          <p:grpSpPr>
            <a:xfrm>
              <a:off x="5413320" y="1230480"/>
              <a:ext cx="1221480" cy="1122840"/>
              <a:chOff x="5413320" y="1230480"/>
              <a:chExt cx="1221480" cy="1122840"/>
            </a:xfrm>
          </p:grpSpPr>
          <p:grpSp>
            <p:nvGrpSpPr>
              <p:cNvPr id="152" name="Group 76"/>
              <p:cNvGrpSpPr/>
              <p:nvPr/>
            </p:nvGrpSpPr>
            <p:grpSpPr>
              <a:xfrm>
                <a:off x="5457960" y="1230480"/>
                <a:ext cx="1136160" cy="1122840"/>
                <a:chOff x="5457960" y="1230480"/>
                <a:chExt cx="1136160" cy="1122840"/>
              </a:xfrm>
            </p:grpSpPr>
            <p:sp>
              <p:nvSpPr>
                <p:cNvPr id="153" name="Freeform 77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4" name="Freeform 78"/>
                <p:cNvSpPr/>
                <p:nvPr/>
              </p:nvSpPr>
              <p:spPr>
                <a:xfrm>
                  <a:off x="5457960" y="1230480"/>
                  <a:ext cx="113616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5" name="Text Box 79"/>
              <p:cNvSpPr/>
              <p:nvPr/>
            </p:nvSpPr>
            <p:spPr>
              <a:xfrm>
                <a:off x="5413320" y="163296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6" name="Line 27"/>
            <p:cNvSpPr/>
            <p:nvPr/>
          </p:nvSpPr>
          <p:spPr>
            <a:xfrm flipH="1">
              <a:off x="2580480" y="309348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7" name="Group 36"/>
            <p:cNvGrpSpPr/>
            <p:nvPr/>
          </p:nvGrpSpPr>
          <p:grpSpPr>
            <a:xfrm>
              <a:off x="2205000" y="2494440"/>
              <a:ext cx="1223280" cy="1122840"/>
              <a:chOff x="2205000" y="2494440"/>
              <a:chExt cx="1223280" cy="1122840"/>
            </a:xfrm>
          </p:grpSpPr>
          <p:sp>
            <p:nvSpPr>
              <p:cNvPr id="158" name="Freeform 46"/>
              <p:cNvSpPr/>
              <p:nvPr/>
            </p:nvSpPr>
            <p:spPr>
              <a:xfrm>
                <a:off x="2209320" y="2494440"/>
                <a:ext cx="11386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47"/>
              <p:cNvSpPr/>
              <p:nvPr/>
            </p:nvSpPr>
            <p:spPr>
              <a:xfrm>
                <a:off x="2205000" y="276480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0" name="Freeform 31"/>
            <p:cNvSpPr/>
            <p:nvPr/>
          </p:nvSpPr>
          <p:spPr>
            <a:xfrm>
              <a:off x="3884760" y="2553480"/>
              <a:ext cx="113544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Text Box 43"/>
            <p:cNvSpPr/>
            <p:nvPr/>
          </p:nvSpPr>
          <p:spPr>
            <a:xfrm>
              <a:off x="3924360" y="2569320"/>
              <a:ext cx="113364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2" name="Group 41"/>
            <p:cNvGrpSpPr/>
            <p:nvPr/>
          </p:nvGrpSpPr>
          <p:grpSpPr>
            <a:xfrm>
              <a:off x="5358240" y="2511360"/>
              <a:ext cx="1316880" cy="1122840"/>
              <a:chOff x="5358240" y="2511360"/>
              <a:chExt cx="1316880" cy="1122840"/>
            </a:xfrm>
          </p:grpSpPr>
          <p:sp>
            <p:nvSpPr>
              <p:cNvPr id="163" name="Freeform 48"/>
              <p:cNvSpPr/>
              <p:nvPr/>
            </p:nvSpPr>
            <p:spPr>
              <a:xfrm>
                <a:off x="5433120" y="251136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Text Box 55"/>
              <p:cNvSpPr/>
              <p:nvPr/>
            </p:nvSpPr>
            <p:spPr>
              <a:xfrm>
                <a:off x="5358240" y="279432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505600" y="429624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45"/>
            <p:cNvGrpSpPr/>
            <p:nvPr/>
          </p:nvGrpSpPr>
          <p:grpSpPr>
            <a:xfrm>
              <a:off x="2205000" y="3777120"/>
              <a:ext cx="1221480" cy="1124280"/>
              <a:chOff x="2205000" y="3777120"/>
              <a:chExt cx="1221480" cy="1124280"/>
            </a:xfrm>
          </p:grpSpPr>
          <p:sp>
            <p:nvSpPr>
              <p:cNvPr id="167" name="Freeform 81"/>
              <p:cNvSpPr/>
              <p:nvPr/>
            </p:nvSpPr>
            <p:spPr>
              <a:xfrm>
                <a:off x="2236320" y="3777120"/>
                <a:ext cx="113652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82"/>
              <p:cNvSpPr/>
              <p:nvPr/>
            </p:nvSpPr>
            <p:spPr>
              <a:xfrm>
                <a:off x="2205000" y="39956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9" name="Group 48"/>
            <p:cNvGrpSpPr/>
            <p:nvPr/>
          </p:nvGrpSpPr>
          <p:grpSpPr>
            <a:xfrm>
              <a:off x="3836520" y="3777120"/>
              <a:ext cx="1221480" cy="1124280"/>
              <a:chOff x="3836520" y="3777120"/>
              <a:chExt cx="1221480" cy="1124280"/>
            </a:xfrm>
          </p:grpSpPr>
          <p:sp>
            <p:nvSpPr>
              <p:cNvPr id="170" name="Freeform 30"/>
              <p:cNvSpPr/>
              <p:nvPr/>
            </p:nvSpPr>
            <p:spPr>
              <a:xfrm>
                <a:off x="3862800" y="3777120"/>
                <a:ext cx="113688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1" name="Text Box 54"/>
              <p:cNvSpPr/>
              <p:nvPr/>
            </p:nvSpPr>
            <p:spPr>
              <a:xfrm>
                <a:off x="3836520" y="4013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2" name="Freeform 50"/>
            <p:cNvSpPr/>
            <p:nvPr/>
          </p:nvSpPr>
          <p:spPr>
            <a:xfrm>
              <a:off x="5433480" y="3770640"/>
              <a:ext cx="113688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51"/>
            <p:cNvSpPr/>
            <p:nvPr/>
          </p:nvSpPr>
          <p:spPr>
            <a:xfrm>
              <a:off x="5413320" y="384588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Line 27"/>
            <p:cNvSpPr/>
            <p:nvPr/>
          </p:nvSpPr>
          <p:spPr>
            <a:xfrm flipH="1">
              <a:off x="2580480" y="5571000"/>
              <a:ext cx="38678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54"/>
            <p:cNvGrpSpPr/>
            <p:nvPr/>
          </p:nvGrpSpPr>
          <p:grpSpPr>
            <a:xfrm>
              <a:off x="2130120" y="5050080"/>
              <a:ext cx="1399320" cy="1122840"/>
              <a:chOff x="2130120" y="5050080"/>
              <a:chExt cx="1399320" cy="1122840"/>
            </a:xfrm>
          </p:grpSpPr>
          <p:sp>
            <p:nvSpPr>
              <p:cNvPr id="176" name="Freeform 57"/>
              <p:cNvSpPr/>
              <p:nvPr/>
            </p:nvSpPr>
            <p:spPr>
              <a:xfrm>
                <a:off x="2276640" y="5050080"/>
                <a:ext cx="113544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58"/>
              <p:cNvSpPr/>
              <p:nvPr/>
            </p:nvSpPr>
            <p:spPr>
              <a:xfrm>
                <a:off x="2130120" y="5271840"/>
                <a:ext cx="13993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57"/>
            <p:cNvGrpSpPr/>
            <p:nvPr/>
          </p:nvGrpSpPr>
          <p:grpSpPr>
            <a:xfrm>
              <a:off x="3836520" y="4986000"/>
              <a:ext cx="1221480" cy="1123200"/>
              <a:chOff x="3836520" y="4986000"/>
              <a:chExt cx="1221480" cy="1123200"/>
            </a:xfrm>
          </p:grpSpPr>
          <p:sp>
            <p:nvSpPr>
              <p:cNvPr id="179" name="Freeform 34"/>
              <p:cNvSpPr/>
              <p:nvPr/>
            </p:nvSpPr>
            <p:spPr>
              <a:xfrm>
                <a:off x="3884400" y="4986000"/>
                <a:ext cx="113544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61"/>
              <p:cNvSpPr/>
              <p:nvPr/>
            </p:nvSpPr>
            <p:spPr>
              <a:xfrm>
                <a:off x="3836520" y="527220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1" name="Group 60"/>
            <p:cNvGrpSpPr/>
            <p:nvPr/>
          </p:nvGrpSpPr>
          <p:grpSpPr>
            <a:xfrm>
              <a:off x="5433480" y="5050080"/>
              <a:ext cx="1221480" cy="1122840"/>
              <a:chOff x="5433480" y="5050080"/>
              <a:chExt cx="1221480" cy="1122840"/>
            </a:xfrm>
          </p:grpSpPr>
          <p:sp>
            <p:nvSpPr>
              <p:cNvPr id="182" name="Freeform 63"/>
              <p:cNvSpPr/>
              <p:nvPr/>
            </p:nvSpPr>
            <p:spPr>
              <a:xfrm>
                <a:off x="5452200" y="5050080"/>
                <a:ext cx="113688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3" name="Text Box 64"/>
              <p:cNvSpPr/>
              <p:nvPr/>
            </p:nvSpPr>
            <p:spPr>
              <a:xfrm>
                <a:off x="5433480" y="527184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1F410-A326-4A00-8677-3A5244F7E7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B8E4-CFB5-4F8B-BB29-208F9C4C1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4191120" y="5254560"/>
            <a:ext cx="4724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Four Absolutes of Quality Managem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2743200"/>
            <a:ext cx="5791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Quality is meeting 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customer nee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B638-0BC1-4D68-90F8-AC70F51352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5E99-F7B6-407C-BEE9-7A1407F04B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o is Responsible for Customer Service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2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20"/>
          <p:cNvSpPr/>
          <p:nvPr/>
        </p:nvSpPr>
        <p:spPr>
          <a:xfrm>
            <a:off x="2590920" y="3276720"/>
            <a:ext cx="41907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Everyone in the laboratory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for improving customer satisf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quir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mmitment from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knowledge of monitoring too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0E00-05D5-4500-99F2-522A2A578F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B197-26F4-4AE8-928E-F05DE57FAD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A2CE-2BAA-465D-A183-6950CA67F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6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8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and its Cli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ti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 Heal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3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15" name="AutoShape 9"/>
          <p:cNvSpPr/>
          <p:nvPr/>
        </p:nvSpPr>
        <p:spPr>
          <a:xfrm>
            <a:off x="3581280" y="4800600"/>
            <a:ext cx="20574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ysicia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ca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6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11"/>
          <p:cNvCxnSpPr>
            <a:stCxn id="210" idx="3"/>
            <a:endCxn id="215" idx="1"/>
          </p:cNvCxnSpPr>
          <p:nvPr/>
        </p:nvCxnSpPr>
        <p:spPr>
          <a:xfrm>
            <a:off x="2437920" y="5105520"/>
            <a:ext cx="114372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8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B6D7-D78D-4490-AB71-772E34A539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1AEA-C56B-4B07-854B-467194D1AD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laboratory shall be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gally identifiab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d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lepho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csim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99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3" name="Picture 4" descr="j0286448"/>
          <p:cNvPicPr/>
          <p:nvPr/>
        </p:nvPicPr>
        <p:blipFill>
          <a:blip r:embed="rId1"/>
          <a:stretch/>
        </p:blipFill>
        <p:spPr>
          <a:xfrm>
            <a:off x="4800600" y="1752480"/>
            <a:ext cx="3286080" cy="4038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ustomer Service-Module 1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8:04Z</dcterms:modified>
  <cp:revision>109</cp:revision>
  <dc:subject/>
  <dc:title>Slide 1</dc:title>
</cp:coreProperties>
</file>